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1F7AA-CEA5-47C3-BE3F-4BD93BAD2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79725-324E-4A65-BB83-38C584C4B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F0BC7-BC2D-4B08-AF9A-F75054FBC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10DEA-78AF-4843-90FA-A1D4BD26C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217A8-D7FA-420F-98DB-1538E4EF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50EF-52AA-41A3-AE58-A367157B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18B0-7A37-4C2A-B06C-C8C1809E0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F78AF-3852-48A5-A872-1225B0D3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2A09F-D923-4DE0-9C19-5B3EDA76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8B082-BCEC-4F12-A5AC-631A3488A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EC5C-B505-4787-9A80-C382DF07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4637-EC8E-4DF1-B73D-FF5563A8F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632C-0C22-40DB-B480-7DEAF5070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going to do with your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useful resources available to you to help choose your post-secondary education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ario Universities Fair</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happened last weekend at the Metro Toronto Convention Cent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www.ouf.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you missed it, check out the website for links to other useful university-related information like eINFO: </a:t>
            </a:r>
            <a:r>
              <a:rPr b="0" lang="en-US" sz="3200" spc="-1" strike="noStrike" u="sng">
                <a:solidFill>
                  <a:srgbClr val="009999"/>
                </a:solidFill>
                <a:uFillTx/>
                <a:latin typeface="Arial"/>
              </a:rPr>
              <a:t>http://www.electronicinfo.ca/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 Tours…</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ways book campus tours with your parents or with your friends (or both)…check out the university websites first to see what kinds of programs you might be interested in so that you can be specific when you book a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ge Information Fair</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n’t missed this one yet! </a:t>
            </a:r>
            <a:r>
              <a:rPr b="0" lang="en-US" sz="2800" spc="-1" strike="noStrike" u="sng">
                <a:solidFill>
                  <a:srgbClr val="009999"/>
                </a:solidFill>
                <a:uFillTx/>
                <a:latin typeface="Arial"/>
              </a:rPr>
              <a:t>http://www.aprod.com/ocif/index.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5th from 10:00am to 7:00pm at the Direct Energy Centre…maybe head down after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take the subway down to Union and then the 509 streetcar to Exhibition Place, you’ll have plenty of time to do homework on the way 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on first slide taken without permission fr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lashortsalegroup.com/options.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21:55:01Z</dcterms:created>
  <dc:creator>rubina khan</dc:creator>
  <dc:description/>
  <dc:language>en-US</dc:language>
  <cp:lastModifiedBy>rubina khan</cp:lastModifiedBy>
  <dcterms:modified xsi:type="dcterms:W3CDTF">2011-10-17T00:39:03Z</dcterms:modified>
  <cp:revision>7</cp:revision>
  <dc:subject/>
  <dc:title>What are you going to do with your life???</dc:title>
</cp:coreProperties>
</file>